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AB60-DE35-4092-8B61-DC4095B2D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C269-0169-4411-8AB1-7AB38D73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6497-D74A-4C74-B2A5-AC483582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525-5573-4F4D-9A9D-7077DDD7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80F-8CFA-45E0-874A-F3FCED3E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355-3BDC-4599-BA1E-B7378357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BC8-3A02-425B-BC8D-F7FEAD25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8E6-6EDE-4A5D-BB6F-D415EEE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A0F-7053-429E-8772-36BFFB29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E13-3246-409F-B18E-027572E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CB2-06FE-4C97-9FAC-30268C5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4E5-85F3-4AE3-AFF1-A60A7427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704-C88A-4868-9930-781CD0F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ACD-74DE-4954-AB02-DBD6632E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281-F666-4430-89E4-2672434E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CDC2-B160-49B9-9E9B-2BB6B171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1981080" y="190512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s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7"/>
          <p:cNvSpPr/>
          <p:nvPr/>
        </p:nvSpPr>
        <p:spPr>
          <a:xfrm>
            <a:off x="152280" y="365760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Lo siento, no puedo venir a tu casa. Nuestra familia caminamos al mar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minutos antes.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2819520" y="3276720"/>
            <a:ext cx="365760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Se. Yo quiero divertirme! ¿por qué no vienes a mi casa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7 minutos antes.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enos días mi amiga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¿Aww quiere vivir tu vid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siel: Comentario:      8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oras antes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7"/>
          <p:cNvSpPr/>
          <p:nvPr/>
        </p:nvSpPr>
        <p:spPr>
          <a:xfrm>
            <a:off x="2819520" y="457200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No es el cumpleaños de tu mamá ahor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ómo esta la fies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27432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Buenos tardes y  Si!! Mis primos estoy en mi casa. Tienen están muy felices ahora. Yo tengo a hago la trabaj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de escuela. Mi hermana esta muy energética! Ella es habla con muy gentes! ¿Dónde esta tu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u no puedes venir en mi fiesta?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Yo estoy dónde mi casa </a:t>
            </a:r>
            <a:r>
              <a:rPr b="0" lang="es-ES_tradnl" sz="900" spc="-1" strike="noStrike">
                <a:solidFill>
                  <a:srgbClr val="343434"/>
                </a:solidFill>
                <a:latin typeface="Wingdings"/>
                <a:ea typeface="Wingdings"/>
              </a:rPr>
              <a:t></a:t>
            </a: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. No puedo venir en tu fiesta. Mi familia es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343434"/>
                </a:solidFill>
                <a:latin typeface="Arial"/>
              </a:rPr>
              <a:t>enojados ahora… pero quiénes en tu fiesta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ninder : Co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116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aralib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0512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inder K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Idi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a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Maninder Ka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Ver fotos de Kiara Zapanta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viar mensaje a Kiara Zapant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2860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Golpea a Kiara Zapan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2895480" y="1143000"/>
            <a:ext cx="762120" cy="2156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C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18288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1981080" y="1828800"/>
            <a:ext cx="4953240" cy="73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o soy muy enérgica y estúpida pero yo estoy perezosa ahora. Yo quiero tener una fiesta pero mi mamá y papá estan en la cas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343434"/>
                </a:solidFill>
                <a:latin typeface="Arial"/>
              </a:rPr>
              <a:t>Escribe algo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7010280" y="1905120"/>
            <a:ext cx="76212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art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mig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152280" y="51055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asi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0"/>
          <p:cNvSpPr/>
          <p:nvPr/>
        </p:nvSpPr>
        <p:spPr>
          <a:xfrm>
            <a:off x="2743200" y="358128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3"/>
          <p:cNvSpPr/>
          <p:nvPr/>
        </p:nvSpPr>
        <p:spPr>
          <a:xfrm>
            <a:off x="2819520" y="4114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7"/>
          <p:cNvSpPr/>
          <p:nvPr/>
        </p:nvSpPr>
        <p:spPr>
          <a:xfrm>
            <a:off x="152280" y="3657600"/>
            <a:ext cx="175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ola! Mi nombre es Maninder. Yo vivo en Jackson Heights. Yo tengo un hermano. Se llama Lucky. Yo soy flaca y muy dulc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8" descr="Photo on 2011-10-21 at 13.53 #2.jpg"/>
          <p:cNvPicPr/>
          <p:nvPr/>
        </p:nvPicPr>
        <p:blipFill>
          <a:blip r:embed="rId1"/>
          <a:stretch/>
        </p:blipFill>
        <p:spPr>
          <a:xfrm>
            <a:off x="2114640" y="2511360"/>
            <a:ext cx="463320" cy="938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0" descr="Photo on 2011-10-21 at 13.39 #2.jpg"/>
          <p:cNvPicPr/>
          <p:nvPr/>
        </p:nvPicPr>
        <p:blipFill>
          <a:blip r:embed="rId2"/>
          <a:stretch/>
        </p:blipFill>
        <p:spPr>
          <a:xfrm>
            <a:off x="2114640" y="3273480"/>
            <a:ext cx="568080" cy="822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4" descr="Photo on 2011-10-21 at 13.53 #2.jpg"/>
          <p:cNvPicPr/>
          <p:nvPr/>
        </p:nvPicPr>
        <p:blipFill>
          <a:blip r:embed="rId3"/>
          <a:stretch/>
        </p:blipFill>
        <p:spPr>
          <a:xfrm>
            <a:off x="2114640" y="3809880"/>
            <a:ext cx="463320" cy="933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7"/>
          <p:cNvSpPr/>
          <p:nvPr/>
        </p:nvSpPr>
        <p:spPr>
          <a:xfrm>
            <a:off x="2743200" y="3886200"/>
            <a:ext cx="350532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i familia est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loca! Estamos muy cansadas. ¿Masii tu tienes otra cama para mi?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Haha. Buenas noches Masii, te amo &lt;3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: 10 minutes ago   Octubre 21, 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2819520" y="3276720"/>
            <a:ext cx="373356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is primas son aburridas pero tus primas son muy divertidas! Ellos no tienen vida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Tu eres una feliz pequeña niña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:   7 horas antes   Octubre 21, de 2011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8" descr="Photo on 2011-10-21 at 13.46.jpg"/>
          <p:cNvPicPr/>
          <p:nvPr/>
        </p:nvPicPr>
        <p:blipFill>
          <a:blip r:embed="rId4"/>
          <a:stretch/>
        </p:blipFill>
        <p:spPr>
          <a:xfrm>
            <a:off x="2041560" y="449280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7"/>
          <p:cNvSpPr/>
          <p:nvPr/>
        </p:nvSpPr>
        <p:spPr>
          <a:xfrm>
            <a:off x="2743200" y="2514600"/>
            <a:ext cx="388620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En mi fiesta estoy mi familia. Yo so muy cansadas! Buenas noches Maninder. Adiós!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Masiel: Comentario:      8 horas antes.     Octubre 21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819520" y="4572000"/>
            <a:ext cx="3733560" cy="38088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ninder: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5 minutes ago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9" descr="Photo on 2011-10-21 at 13.53 #2.jpg"/>
          <p:cNvPicPr/>
          <p:nvPr/>
        </p:nvPicPr>
        <p:blipFill>
          <a:blip r:embed="rId5"/>
          <a:stretch/>
        </p:blipFill>
        <p:spPr>
          <a:xfrm>
            <a:off x="2041560" y="5181480"/>
            <a:ext cx="463680" cy="933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7"/>
          <p:cNvSpPr/>
          <p:nvPr/>
        </p:nvSpPr>
        <p:spPr>
          <a:xfrm>
            <a:off x="2743200" y="5181480"/>
            <a:ext cx="4419720" cy="53352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Masiel:     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Commentario: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  1 minute ago       Octubre 22, de 2011 </a:t>
            </a: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2" descr="Photo on 2011-10-21 at 13.46.jpg"/>
          <p:cNvPicPr/>
          <p:nvPr/>
        </p:nvPicPr>
        <p:blipFill>
          <a:blip r:embed="rId6"/>
          <a:stretch/>
        </p:blipFill>
        <p:spPr>
          <a:xfrm>
            <a:off x="1889280" y="6016680"/>
            <a:ext cx="641160" cy="938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7"/>
          <p:cNvSpPr/>
          <p:nvPr/>
        </p:nvSpPr>
        <p:spPr>
          <a:xfrm>
            <a:off x="2743200" y="6019920"/>
            <a:ext cx="4038480" cy="45720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43434"/>
                </a:solidFill>
                <a:latin typeface="Arial"/>
              </a:rPr>
              <a:t>Te guesta: Commentario 5 sceonds ago            Octubre 22, de 2011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5:22:52Z</dcterms:created>
  <dc:creator>FriscoISD</dc:creator>
  <dc:description/>
  <dc:language>en-US</dc:language>
  <cp:lastModifiedBy>User</cp:lastModifiedBy>
  <dcterms:modified xsi:type="dcterms:W3CDTF">2013-01-02T14:57:19Z</dcterms:modified>
  <cp:revision>117</cp:revision>
  <dc:subject/>
  <dc:title>Profile</dc:title>
</cp:coreProperties>
</file>